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D9A-D836-47A6-8495-BAFB899D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E8D-1337-423D-85BD-42234D3C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C0A-3779-49E9-8A14-BCE12D7F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8C0-3CF2-45F2-AFEB-DF5FA17A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450-D2E1-4FEF-A43A-D0CE33DE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96C-97C8-4B4E-898D-2C5DECFC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CAF-91CF-4928-93D4-945911C5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E8F-FE0E-46DC-96E1-226C531B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B42-903A-4672-9011-EA99569A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3D9-C582-48ED-B5E3-E811535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5C9-024D-4D9A-8EAE-B65277F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253-26D1-4A5C-A492-3012CD0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EB54-6DEB-4072-9C0A-D20D3812BD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916280"/>
            <a:ext cx="7488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казывание по картине «Семейный уж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5435640" y="4869000"/>
            <a:ext cx="324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готовила: Н.Р. Амин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https://img0.liveinternet.ru/images/attach/c/7/96/60/96060008_Risunok__29_.jpg"/>
          <p:cNvPicPr/>
          <p:nvPr/>
        </p:nvPicPr>
        <p:blipFill>
          <a:blip r:embed="rId1"/>
          <a:stretch/>
        </p:blipFill>
        <p:spPr>
          <a:xfrm>
            <a:off x="-642960" y="-290520"/>
            <a:ext cx="10429920" cy="74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ttps://ds02.infourok.ru/uploads/ex/12e8/000765e7-03dcf4a0/img2.jpg"/>
          <p:cNvPicPr/>
          <p:nvPr/>
        </p:nvPicPr>
        <p:blipFill>
          <a:blip r:embed="rId1"/>
          <a:stretch/>
        </p:blipFill>
        <p:spPr>
          <a:xfrm>
            <a:off x="-743040" y="-243000"/>
            <a:ext cx="1063008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https://ds05.infourok.ru/uploads/ex/014f/00087946-24b776ae/hello_html_mcba8d9c.jpg"/>
          <p:cNvPicPr/>
          <p:nvPr/>
        </p:nvPicPr>
        <p:blipFill>
          <a:blip r:embed="rId1"/>
          <a:stretch/>
        </p:blipFill>
        <p:spPr>
          <a:xfrm>
            <a:off x="-685800" y="-266760"/>
            <a:ext cx="105156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https://img0.liveinternet.ru/images/attach/c/7/96/60/96060008_Risunok__29_.jpg"/>
          <p:cNvPicPr/>
          <p:nvPr/>
        </p:nvPicPr>
        <p:blipFill>
          <a:blip r:embed="rId1"/>
          <a:stretch/>
        </p:blipFill>
        <p:spPr>
          <a:xfrm>
            <a:off x="324000" y="84240"/>
            <a:ext cx="4103640" cy="28810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https://ds02.infourok.ru/uploads/ex/12e8/000765e7-03dcf4a0/img2.jpg"/>
          <p:cNvPicPr/>
          <p:nvPr/>
        </p:nvPicPr>
        <p:blipFill>
          <a:blip r:embed="rId2"/>
          <a:stretch/>
        </p:blipFill>
        <p:spPr>
          <a:xfrm>
            <a:off x="5076720" y="182520"/>
            <a:ext cx="3888000" cy="2814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https://ds05.infourok.ru/uploads/ex/014f/00087946-24b776ae/hello_html_mcba8d9c.jpg"/>
          <p:cNvPicPr/>
          <p:nvPr/>
        </p:nvPicPr>
        <p:blipFill>
          <a:blip r:embed="rId3"/>
          <a:stretch/>
        </p:blipFill>
        <p:spPr>
          <a:xfrm>
            <a:off x="2432160" y="3213000"/>
            <a:ext cx="47163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Молодцы! "/>
          <p:cNvPicPr/>
          <p:nvPr/>
        </p:nvPicPr>
        <p:blipFill>
          <a:blip r:embed="rId1"/>
          <a:stretch/>
        </p:blipFill>
        <p:spPr>
          <a:xfrm>
            <a:off x="1187280" y="765000"/>
            <a:ext cx="72979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9-11-20T18:06:55Z</dcterms:modified>
  <cp:revision>689</cp:revision>
  <dc:subject/>
  <dc:title>Diapositiva 1</dc:title>
</cp:coreProperties>
</file>